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FA3-3E79-4BB1-8C94-BC98AA71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75E-DDF8-45D4-A51F-2BA11E2A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4F7-E2A3-4BB9-AE23-F9D315C6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88A-B533-4BCB-AD4E-AE8BE0E6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28D-BEDF-46F4-86A9-94BE51C8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725-762D-4C7B-BBED-DD4C44EA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992-BFAD-477F-AB77-B0547EF9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D17-85F4-461E-B3E7-35DCF1A2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B8D-886B-41EA-BB90-21B7282D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8CD-A20D-4E9F-ABDA-01DC7E4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94E-807E-4698-B97E-DCCE35AF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B77-63D4-450C-BEDC-58C3C4A0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D8D4-EF3F-4BA6-9B3C-A8A058B6E2C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amiweb.com/kimono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Japan Postc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By Laura and Cynth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eaning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s derived from ‘Gei’, which in Japanese means performance or entertainer, and ‘sha’, which means person, and dates back 400 years ago to the 'Edo'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－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Make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It is long and tiresome process to apply th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Naturally there are special professionals to do this. This usually happens after the geisha is dressed up to </a:t>
            </a:r>
            <a:r>
              <a:rPr b="0" lang="en-AU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kimono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 traditional white base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was originally made with harmful lead or rice powder. The red lipstick and red and black accents around the eyes and eyebrows are typical geisha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まけうｐ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ocess begins with application of bintsuke-abura, a special kind of oil. Next the white powder like substance is mixed with water and applied to the skin with a special bamboo brush. The white substance covers almost all visible part of the skin, including chest and neck. The nape of the neck has the typical W or V shape of clear skin which has no white makeup. This is especially important part, as the neck is the crucial point of 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げいしゃ‘ｓ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pres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Geisha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981080"/>
            <a:ext cx="26668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was walking down the street of where I am staying, and I saw 3 ladies wearing Geisha. It was pretty amazing and I think you would really love them if you got to see what they look li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to speak soon La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F:\geishas.jpg"/>
          <p:cNvPicPr/>
          <p:nvPr/>
        </p:nvPicPr>
        <p:blipFill>
          <a:blip r:embed="rId1"/>
          <a:stretch/>
        </p:blipFill>
        <p:spPr>
          <a:xfrm>
            <a:off x="4357800" y="15001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re are a lot of funny looking transports 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 Japans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s trains are very different to ours, and there look like a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In Japan/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hey have a mini car but it isn’t an everyday car, it is only used for special occasions. There planes aren’t that different to our planes in 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</a:rPr>
              <a:t>あうｓｔらぃあ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. Their buses are like ours too but theirs are very colourful and not hard to see =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Transport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2120" y="1905120"/>
            <a:ext cx="266688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felt like going to the market to take a look at some products. While in my taxi I came across a very funny looking car. It was amazing but nothing like our cars in Australia. I also went past the train station where there is a lot of different types of trains and they are wonderful to look 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anks for your Letter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F:\Picnik collage.jpg"/>
          <p:cNvPicPr/>
          <p:nvPr/>
        </p:nvPicPr>
        <p:blipFill>
          <a:blip r:embed="rId1"/>
          <a:stretch/>
        </p:blipFill>
        <p:spPr>
          <a:xfrm>
            <a:off x="4071960" y="192888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Japanese cuisine offers a great variety of dishes and regional specialties. Some of the most popular food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dishes, Seafood dishes, noodle dishes, nabe dishes, soya bean dishes, yoshoku dishes and other 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ush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an be defined as a dish which contain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rice , cooked rice that is prepared with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vinegar. There are various types of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すし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dis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ー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ob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noodles are native Japanese noodles made of buckwheat flour or a mixture of buckwheat or wheat flour.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ば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re about as thick as spaghetti. They can be cold or hot and can be served with various topp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Food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1981080"/>
            <a:ext cx="36576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Cynth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 got your reply and I think I might go and have a look at all of those amazing things you mentioned. Anyway I have just been to a spectacular restaurant that had very YUMMY Japanese food. It had all different types of things to choose fr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ope you can go and see some more amazing things as well . La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:\japanese food.jpg"/>
          <p:cNvPicPr/>
          <p:nvPr/>
        </p:nvPicPr>
        <p:blipFill>
          <a:blip r:embed="rId1"/>
          <a:stretch/>
        </p:blipFill>
        <p:spPr>
          <a:xfrm>
            <a:off x="4572000" y="17146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one of the best hotels in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きょ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re is of course better ones but this one a lot of people go to. The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s a moder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a 5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And inside it, it looks beautiful=].  Its a 37 storey hotel.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has been opened for a few years. Don’t know how long though. Most of the stuff you would see in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てｌ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s modern stuff, blue stuff, fancy stuff. Inside the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紺ら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ほｔｌ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there are a lot of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Conrad Hotel Post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5800" y="2209680"/>
            <a:ext cx="32004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Hey Laur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s it is our last day in Japan I thought I might take a look at some of the other hotels I could have stayed at. While I was searching I came across a beautiful hotel called the Conrad hotel. It was well set out and it had a range of things to do and expl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s Sincerely Cynth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F:\conrad hotel.jpg"/>
          <p:cNvPicPr/>
          <p:nvPr/>
        </p:nvPicPr>
        <p:blipFill>
          <a:blip r:embed="rId1"/>
          <a:stretch/>
        </p:blipFill>
        <p:spPr>
          <a:xfrm>
            <a:off x="4071960" y="1785960"/>
            <a:ext cx="44672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1:40:48Z</dcterms:created>
  <dc:creator> User</dc:creator>
  <dc:description/>
  <dc:language>en-US</dc:language>
  <cp:lastModifiedBy>SHPS</cp:lastModifiedBy>
  <dcterms:modified xsi:type="dcterms:W3CDTF">2009-09-08T22:59:03Z</dcterms:modified>
  <cp:revision>5</cp:revision>
  <dc:subject/>
  <dc:title>Japan Postcards</dc:title>
</cp:coreProperties>
</file>