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9BCE-BA65-42A6-AD1A-AFD9EB9E9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A18F-E08E-4AE8-A9F6-B9ED3E75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AD96-5E2F-406C-8445-CDC7706B4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47AE-2DF6-4482-B91A-7E92817A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B597-055A-4AF2-9193-061A83C9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2DF1-7706-49DA-A167-700D7A72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43B0-CA8B-4B37-8A01-F6EBA3F2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8F06-EF11-4430-8E89-C02CA180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324D-1626-4EAB-9436-7AAA971B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7B49-B20A-431B-84B0-F26FA2F6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558C-E0AC-4AE1-971C-55251351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CB30-8750-4759-B86B-4C0EECA2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3083-A63E-4B75-9F72-D3BF1FD5B93C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anamiweb.com/kimono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Japan Postc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814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By Laura and Cynth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Geisha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Meaning of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げいしゃ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The word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げいしゃ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is derived from ‘Gei’, which in Japanese means performance or entertainer, and ‘sha’, which means person, and dates back 400 years ago to the 'Edo' perio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まけうｐ－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Make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It is long and tiresome process to apply the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まけうｐ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. Naturally there are special professionals to do this. This usually happens after the geisha is dressed up to </a:t>
            </a:r>
            <a:r>
              <a:rPr b="0" lang="en-AU" sz="1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kimono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The traditional white base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まけうｐ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was originally made with harmful lead or rice powder. The red lipstick and red and black accents around the eyes and eyebrows are typical geisha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まけうｐ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まけうｐ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process begins with application of bintsuke-abura, a special kind of oil. Next the white powder like substance is mixed with water and applied to the skin with a special bamboo brush. The white substance covers almost all visible part of the skin, including chest and neck. The nape of the neck has the typical W or V shape of clear skin which has no white makeup. This is especially important part, as the neck is the crucial point of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げいしゃ‘ｓ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presenc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Geisha Postc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685800" y="1981080"/>
            <a:ext cx="266688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Hey Cynthi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I was walking down the street of where I am staying, and I saw 3 ladies wearing Geisha. It was pretty amazing and I think you would really love them if you got to see what they look lik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Hope to speak soon Lau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8" descr="F:\geishas.jpg"/>
          <p:cNvPicPr/>
          <p:nvPr/>
        </p:nvPicPr>
        <p:blipFill>
          <a:blip r:embed="rId1"/>
          <a:stretch/>
        </p:blipFill>
        <p:spPr>
          <a:xfrm>
            <a:off x="4357800" y="1500120"/>
            <a:ext cx="4286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There are a lot of funny looking transports in Japan/</a:t>
            </a:r>
            <a:r>
              <a:rPr b="1" i="1" lang="ja-JP" sz="2800" spc="-1" strike="noStrike">
                <a:solidFill>
                  <a:srgbClr val="000000"/>
                </a:solidFill>
                <a:latin typeface="Times New Roman"/>
              </a:rPr>
              <a:t>ときょ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.  Japans/</a:t>
            </a:r>
            <a:r>
              <a:rPr b="1" i="1" lang="ja-JP" sz="2800" spc="-1" strike="noStrike">
                <a:solidFill>
                  <a:srgbClr val="000000"/>
                </a:solidFill>
                <a:latin typeface="Times New Roman"/>
              </a:rPr>
              <a:t>ときょ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s trains are very different to ours, and there look like a pla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In Japan/</a:t>
            </a:r>
            <a:r>
              <a:rPr b="1" i="1" lang="ja-JP" sz="2800" spc="-1" strike="noStrike">
                <a:solidFill>
                  <a:srgbClr val="000000"/>
                </a:solidFill>
                <a:latin typeface="Times New Roman"/>
              </a:rPr>
              <a:t>ときょ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they have a mini car but it isn’t an everyday car, it is only used for special occasions. There planes aren’t that different to our planes in </a:t>
            </a:r>
            <a:r>
              <a:rPr b="1" i="1" lang="ja-JP" sz="2800" spc="-1" strike="noStrike">
                <a:solidFill>
                  <a:srgbClr val="000000"/>
                </a:solidFill>
                <a:latin typeface="Times New Roman"/>
              </a:rPr>
              <a:t>あうｓｔらぃあ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. Their buses are like ours too but theirs are very colourful and not hard to see =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Transport Postc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762120" y="1905120"/>
            <a:ext cx="2666880" cy="37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Hey Laur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I felt like going to the market to take a look at some products. While in my taxi I came across a very funny looking car. It was amazing but nothing like our cars in Australia. I also went past the train station where there is a lot of different types of trains and they are wonderful to look 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Thanks for your Letter Cynth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F:\Picnik collage.jpg"/>
          <p:cNvPicPr/>
          <p:nvPr/>
        </p:nvPicPr>
        <p:blipFill>
          <a:blip r:embed="rId1"/>
          <a:stretch/>
        </p:blipFill>
        <p:spPr>
          <a:xfrm>
            <a:off x="4071960" y="1928880"/>
            <a:ext cx="43578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Japanese cuisine offers a great variety of dishes and regional specialties. Some of the most popular foods a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Rice dishes, Seafood dishes, noodle dishes, nabe dishes, soya bean dishes, yoshoku dishes and other dish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すしー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ush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すし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can be defined as a dish which contains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すし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rice , cooked rice that is prepared with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すし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vinegar. There are various types of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すし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dish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そばー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ob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そば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noodles are native Japanese noodles made of buckwheat flour or a mixture of buckwheat or wheat flour.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そば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are about as thick as spaghetti. They can be cold or hot and can be served with various topp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Food Postc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09480" y="1981080"/>
            <a:ext cx="36576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Hey Cynthi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I got your reply and I think I might go and have a look at all of those amazing things you mentioned. Anyway I have just been to a spectacular restaurant that had very YUMMY Japanese food. It had all different types of things to choose fr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Hope you can go and see some more amazing things as well . La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F:\japanese food.jpg"/>
          <p:cNvPicPr/>
          <p:nvPr/>
        </p:nvPicPr>
        <p:blipFill>
          <a:blip r:embed="rId1"/>
          <a:stretch/>
        </p:blipFill>
        <p:spPr>
          <a:xfrm>
            <a:off x="4572000" y="171468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Conrad Hot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紺ら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ほてｌ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紺ら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ほてｌ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is one of the best hotels in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ときょ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there is of course better ones but this one a lot of people go to. The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紺ら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ほてｌ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is a moder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ほてｌ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. The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紺ら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ほてｌ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is a 5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ほてｌ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. And inside it, it looks beautiful=].  Its a 37 storey hotel. The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紺ら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ほてｌ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has been opened for a few years. Don’t know how long though. Most of the stuff you would see in the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紺ら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ほてｌ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is modern stuff, blue stuff, fancy stuff. Inside the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紺ら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ほｔｌ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there are a lot of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Conrad Hotel Postc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685800" y="2209680"/>
            <a:ext cx="320040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Hey Laur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As it is our last day in Japan I thought I might take a look at some of the other hotels I could have stayed at. While I was searching I came across a beautiful hotel called the Conrad hotel. It was well set out and it had a range of things to do and explo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Yours Sincerely Cynth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F:\conrad hotel.jpg"/>
          <p:cNvPicPr/>
          <p:nvPr/>
        </p:nvPicPr>
        <p:blipFill>
          <a:blip r:embed="rId1"/>
          <a:stretch/>
        </p:blipFill>
        <p:spPr>
          <a:xfrm>
            <a:off x="4071960" y="1785960"/>
            <a:ext cx="446724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11:40:48Z</dcterms:created>
  <dc:creator> User</dc:creator>
  <dc:description/>
  <dc:language>en-US</dc:language>
  <cp:lastModifiedBy>SHPS</cp:lastModifiedBy>
  <dcterms:modified xsi:type="dcterms:W3CDTF">2009-09-08T22:59:03Z</dcterms:modified>
  <cp:revision>5</cp:revision>
  <dc:subject/>
  <dc:title>Japan Postcards</dc:title>
</cp:coreProperties>
</file>